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whoosh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0732-3209-4948-AB9C-3D48C06D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CFD3-90C9-4FEF-987E-E2565A22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D79481-D161-4B1F-88A3-DB1C7DC1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E74CB6-D973-4768-913B-301F2988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04FDBA-A2C5-42F1-A743-39FCB1C5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91F963-1D4B-4D4E-92D0-2FA5DF73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B9694F-10EA-4CE0-BA92-96AC1B21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EC07F3-44AF-4124-9203-DAAF95DD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A4ADD3-4B7E-405D-9661-CEC0CBFC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1D1D80-B589-49E9-8C72-75A53C161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9DFFEB-A56B-4F7B-842C-FD51ABBD0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B474B0-0323-429E-BBF2-3D658A6E7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864B-CC27-4E9A-AA28-D16988BC8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E92D8D-6C83-4343-BB96-E1E17D34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F074DF-3F36-465D-8AF8-626C81BB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B38AB5-183F-4E05-87FF-FD06389C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6E9B69-BC25-44B0-B5F9-5393201E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FD8F4C-7C90-49FA-9CD9-9BE9396E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D1E9F0-9260-4A78-8F34-FEFC32CB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1F9449-F9D9-46CE-981B-395CEDB8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2624BE-3432-48CD-ACBC-D62B8486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B3F78F-6BCF-4AB9-9D12-73BD3387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123BB3-B934-49C9-8124-C9842275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AB7B-6AD8-4577-BF3F-2ACA9D952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9BDC27-8BE0-4099-B264-22056D603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6D9B6-0E1F-42F3-8DA6-E4003FC6A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22995-9371-490C-9082-C0EFE871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8EA21-034B-48D6-85E2-1B1F4A06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EA449-D029-4375-B3D8-25A9EA32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31699-82CC-4A4A-8C3C-8A7C6193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0696B-A1C4-44E9-8553-FCC56D70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FB31F-2B42-41FB-9752-1B65E7B4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4CAF7-FC18-42B8-B4CC-BF435988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C1151-F074-46E8-BF3E-0AAEC93A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2C5E-CA62-44B7-8D5D-17AF24910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41DE5-60B1-4798-ACF1-5AF3AFAD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D09F3-21AC-4963-BF90-A79FCBC5F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0D422-2CB6-4E67-894B-975863226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64C72E-159B-4870-99A1-8FD722B2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8F2AA8-D0E3-43FD-90C7-930B2FD9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771A0F-D308-48A4-96A6-FBAFE743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DAF179-B462-4C64-8EC5-96391475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BF8609-175C-4B30-B7C1-1654E75F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CA07FC-C042-4B48-BB87-C330F7E1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5D1844-CF0C-4FC8-9D53-6FF4DD87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B66D-9233-4944-BEFB-A10417F0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76AD7B-DFFB-4F91-81A2-611CB467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4C8888-BBD5-408F-9F7C-07F9C4AC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2BB56E-E151-4E8E-B287-3CC84030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B0EBA4-37E9-4125-8FEB-04970D17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B4C8F0-AF28-4440-BF3D-1CA986D0E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80D0-A116-4E04-BEFD-A16FBF39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22E9-A852-4837-8457-DDD76EB6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4FC3-B8EE-41F9-A2F9-64EFDE5A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FD34-FE9B-43E7-A310-E196CBFF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D01D-AA36-44C3-A9A8-72F80A4D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F87A-6D8E-4BC3-9D93-E83A977D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E557-E40F-461A-B06D-0C428759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92AA-B531-43E8-865F-0412352C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860A-A0D5-411D-98C0-54F000FD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F520-AB48-4D77-8356-EBEE6AC6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C91F-C9DA-43AF-AB57-41F2318A5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8960E-4777-4829-9C32-ABDBB6163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71D35-5313-4967-B8B2-81C47418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CF353-51D7-4DB0-AAA3-5B9F13C2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91EFF-D4E6-4D5E-8F1E-0DDA4330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7A63A-2AF3-4D2E-8BDD-5ECDF42C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37ED-8295-43A4-B106-886D9DD1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12DFC-B8F6-4EA1-B180-F74A8B18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59323-DFC8-4DDC-82E4-2167F7B3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A2899-C36A-470B-B3A0-C4D3C269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139D1-50A6-4018-8073-3E8914CC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2E813-CD8F-49A9-9558-A7B8AEDB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81508-52B6-4454-A7F8-0F931C807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0B563-695C-4256-A8D2-50A579782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86417-5919-47BC-BB67-DA1E15087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90B7C-39C2-437A-B6BF-40664058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8BBC3-7927-4EE2-BAAF-DF5D82B0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9B96-3C82-4678-9140-662D74B1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2467F-3177-41E7-952D-CF63B359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66D9C-695B-4458-BC2E-DB5D6276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DC6B0-30F8-4205-B9C3-32E23F99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96338-1F9D-4BAC-A2A5-B7E4339D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1CCBD-D881-41E6-92C8-4FD9C6E2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32664-08DF-46DA-BD5E-E24C04A3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A0143-9754-43B4-833B-C59ED7F8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081E2-74E5-4A10-9E18-C38E705F7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8B522-B473-4719-A9AA-FFC0A0FC5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781A5-1017-4DD2-90A5-06C068F4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960A-2E33-4D6A-A635-156C613C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AC92B-F429-46B4-A1FB-00C00243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5F0F8-A8C4-43B8-A832-0EED230A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8D241-6502-4944-99E4-7E82612E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C88EC-B8B6-4B7C-AC55-D00BE7B5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B2832-067C-48BC-8537-BCE2F564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A4AA2-C60B-4B2E-B728-9F6F1CCA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D1CD6-2170-4D27-8E57-F1344963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205DE-9EFF-4BAD-BC83-A38D689A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00AB6-90D6-4D3B-90BC-463187EE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45827-B2D4-431C-8B88-D97B29743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9172-4762-4F9F-A03D-E01F8B57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84736-1BA7-41A1-A4B1-CA65CBAC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E0A02-8F4E-46D7-9F36-9FDBE73BD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0F973-2AEA-4238-B23C-A0AD32F6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BC63B-6307-459D-A564-65458750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B0BC0-18D6-47F9-A80F-5B357383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2D9D5-4452-489E-8EAC-F811CE63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BEFC1-A444-44B6-9921-8DF6660E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CA0A5-1F83-473D-8457-43E65E36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063CA-5180-4D0E-9D9E-C72CAC9B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FFEFC-8FE3-46AF-8B77-9931DD95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9315-D84F-4B5F-A8B2-DEF839CD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A0662-A73C-4035-ADF8-097D5D1F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EF256-3A79-46C5-A41D-8CCFD0A9D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E3AD3-27F7-4AC1-8376-C13B16A4D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5C3BC-1756-4940-8764-F39B2066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B66DC-AC63-4CD1-84BE-64293B7E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C46B8-06C6-400D-8B2D-17475929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A271C-01F5-4946-BC9D-AEC3C1E1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CDC80-EBDE-4FD5-8DE0-8E5F0136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67900-CD42-4008-B939-F4561E81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D9BC3-F50F-4586-AF37-E1E6B3A3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94FD-5AEB-4866-BB4A-BB869F56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78DCA-C389-4F92-AB32-AB844E6D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69DC3-A4AA-44D6-8CA5-5677A38E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AE376-56AA-4BA2-9CCA-0D09C4F1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165E2-70CC-4989-BB80-BBAC3B6C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9FBE0-7F58-4079-AD1A-922F98A7C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DCE5B-F23F-4E4D-9BCF-5F8EE6376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B0D4B-E49F-4395-93AE-94D0CB8C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C6A53-7EBD-441A-9AA3-2B4FE6ED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B270C-A340-4DC0-AB43-A6410081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81C56-A945-4C79-9AC3-7EBFF6C3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B7BF-8A30-4704-BC45-E1749763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47F33-BE7A-4BD1-83F3-D8A24B30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707E7-A32E-4461-86C7-BEA1409F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7803B-0738-49F7-BD9D-8DDFD76C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58CE7-93A6-4EE4-AD90-C5D3A6A1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64683-4034-404D-908B-29C76AEE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0E2B9-F277-4BB7-8C85-F45DCAB5F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A3081-4A18-4AB0-BD6F-F4164B38F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668494-12A7-48DE-B813-FCB0BE752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50CE36-040B-4DA9-B569-E5EFE71B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789850-4B97-4283-BE21-6FF78699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054C-27B5-456F-901C-6C9A2468D7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B321-0301-41E6-A6D8-40A28A589F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97D1-05D8-4E3B-A63B-EE4E8729BD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BBE6-D867-4CBA-9F04-A35254DE98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B065-889E-437B-8054-5FE4E1B539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2EB3-6028-45AB-8972-A52A455B61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09AC-86F7-4322-B120-72793FD912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5F01-5FBF-41AC-BD97-9375E192D0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6BC3-6EE8-4C85-95BE-80C1210D7A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4013-0DE7-4F24-BFEF-BB7FE64A24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764F-1689-4B28-8472-8931587A21D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E07E-9326-4869-8BAA-6A014D06B4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anjuan.edu/files/filesystem/Marzano.pps" TargetMode="External"/><Relationship Id="rId2" Type="http://schemas.openxmlformats.org/officeDocument/2006/relationships/hyperlink" Target="http://www.uhseport.net/published/k/sh/kshaw/collection/1/25/upload.c-kshaw-1n25.ppt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gets.gc.k12.va.us/VSTE/2008/3effortandrecognition.htm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066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RESENTED BY JANE COOK,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TCONN LITERACY &amp; TECHNOLOGY COACH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ED FROM: </a:t>
            </a:r>
            <a:r>
              <a:rPr b="0" lang="en-US" sz="1500" spc="-1" strike="noStrike" u="sng">
                <a:solidFill>
                  <a:srgbClr val="00a3d6"/>
                </a:solidFill>
                <a:uFillTx/>
                <a:latin typeface="Times New Roman"/>
                <a:ea typeface="Times New Roman"/>
                <a:hlinkClick r:id="rId1"/>
              </a:rPr>
              <a:t>WWW.SANJUAN.EDU/FILES/FILESYSTEM/MARZANO.PPS </a:t>
            </a:r>
            <a:r>
              <a:rPr b="1" i="1" lang="en-US" sz="1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a3d6"/>
                </a:solidFill>
                <a:uFillTx/>
                <a:latin typeface="Georgia"/>
                <a:hlinkClick r:id="rId2"/>
              </a:rPr>
              <a:t>WWW.UHSEPORT.NET/PUBLISHED/K/SH/KSHAW/COLLECTION/1/25/UPLOAD.C-KSHAW-1N25.PPT 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d16349"/>
                </a:solidFill>
                <a:latin typeface="Georgia"/>
              </a:rPr>
              <a:t>Reinforcing Effort and </a:t>
            </a:r>
            <a:br>
              <a:rPr sz="4300"/>
            </a:br>
            <a:r>
              <a:rPr b="1" lang="en-US" sz="4300" spc="-1" strike="noStrike">
                <a:solidFill>
                  <a:srgbClr val="d16349"/>
                </a:solidFill>
                <a:latin typeface="Georgia"/>
              </a:rPr>
              <a:t>Providing Recognition</a:t>
            </a:r>
            <a:endParaRPr b="0" lang="en-US" sz="4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Picture 6" descr="MCj02813330000[1]"/>
          <p:cNvPicPr/>
          <p:nvPr/>
        </p:nvPicPr>
        <p:blipFill>
          <a:blip r:embed="rId3"/>
          <a:stretch/>
        </p:blipFill>
        <p:spPr>
          <a:xfrm>
            <a:off x="6858000" y="4376880"/>
            <a:ext cx="186516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2"/>
          <p:cNvSpPr/>
          <p:nvPr/>
        </p:nvSpPr>
        <p:spPr>
          <a:xfrm>
            <a:off x="1219320" y="228600"/>
            <a:ext cx="7315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3"/>
          <p:cNvSpPr/>
          <p:nvPr/>
        </p:nvSpPr>
        <p:spPr>
          <a:xfrm>
            <a:off x="533520" y="17524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ople generally attribute success at any given task to one of four caus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1752480" y="2743200"/>
            <a:ext cx="51818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4b50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5064"/>
                </a:solidFill>
                <a:latin typeface="Tahoma"/>
              </a:rPr>
              <a:t>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b50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5064"/>
                </a:solidFill>
                <a:latin typeface="Tahoma"/>
              </a:rPr>
              <a:t>Other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b50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5064"/>
                </a:solidFill>
                <a:latin typeface="Tahoma"/>
              </a:rPr>
              <a:t>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b50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5064"/>
                </a:solidFill>
                <a:latin typeface="Tahoma"/>
              </a:rPr>
              <a:t>L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990720" y="49528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415b5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5b5c"/>
                </a:solidFill>
                <a:latin typeface="Tahoma"/>
              </a:rPr>
              <a:t>Three of these four beliefs ultimately inhibit achievement – (Covington 1983,198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Generalizations from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3"/>
          <p:cNvSpPr/>
          <p:nvPr/>
        </p:nvSpPr>
        <p:spPr>
          <a:xfrm>
            <a:off x="1219320" y="20574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t all students realize the importance       of believing in eff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2819520" y="53341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dan,Midgley, &amp; Anderman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1447920" y="342900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5064"/>
                </a:solidFill>
                <a:latin typeface="Tahoma"/>
              </a:rPr>
              <a:t>The implication is that teachers should explain and exemplify the “effort belief” to stu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2"/>
          <p:cNvSpPr/>
          <p:nvPr/>
        </p:nvSpPr>
        <p:spPr>
          <a:xfrm>
            <a:off x="1295280" y="281952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5064"/>
                </a:solidFill>
                <a:latin typeface="Tahoma"/>
              </a:rPr>
              <a:t>Students who were taught about the relationship between effort and achievement increased their achievement more than students who were taught techniques for time management and comprehension of new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380880" y="594360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4"/>
          <p:cNvSpPr/>
          <p:nvPr/>
        </p:nvSpPr>
        <p:spPr>
          <a:xfrm>
            <a:off x="3657600" y="55627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an Overwalle &amp; De Metsenaere,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1219320" y="53352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Tahoma"/>
              </a:rPr>
              <a:t>Generalizations from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838080" y="160020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udents can learn to change their beliefs to an emphasis on eff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2"/>
          <p:cNvSpPr/>
          <p:nvPr/>
        </p:nvSpPr>
        <p:spPr>
          <a:xfrm>
            <a:off x="1143000" y="228600"/>
            <a:ext cx="7315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Recommendations for Classroom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3"/>
          <p:cNvSpPr/>
          <p:nvPr/>
        </p:nvSpPr>
        <p:spPr>
          <a:xfrm>
            <a:off x="1409760" y="2514600"/>
            <a:ext cx="69343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hare personal examples of times you have succeeded because you did not giv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hare examples of well-known athletes and others  who succeeded mainly because they did not giv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ve students share personal examples of times they succeeded because they did not give up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4"/>
          <p:cNvSpPr/>
          <p:nvPr/>
        </p:nvSpPr>
        <p:spPr>
          <a:xfrm>
            <a:off x="1523880" y="144792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064"/>
                </a:solidFill>
                <a:latin typeface="Tahoma"/>
              </a:rPr>
              <a:t>Students need to be taught that effort can improve achiev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2"/>
          <p:cNvSpPr/>
          <p:nvPr/>
        </p:nvSpPr>
        <p:spPr>
          <a:xfrm>
            <a:off x="2286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Recommendations for Classroom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533520" y="22096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studen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ffort and achie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4"/>
          <p:cNvSpPr/>
          <p:nvPr/>
        </p:nvSpPr>
        <p:spPr>
          <a:xfrm>
            <a:off x="533520" y="3352680"/>
            <a:ext cx="7010280" cy="23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064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4b5064"/>
                </a:solidFill>
                <a:latin typeface="Tahoma"/>
              </a:rPr>
              <a:t>Charting their effort and achievement will reveal patterns and help students see the connection between the tw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5064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2"/>
          <p:cNvSpPr/>
          <p:nvPr/>
        </p:nvSpPr>
        <p:spPr>
          <a:xfrm>
            <a:off x="609480" y="30492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Reinforcing Effort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990720" y="2819520"/>
            <a:ext cx="73152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udents know what is exp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air and credible evaluations ar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urriculum is geared to stand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udent responsibility for work is emphasiz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ults are fixed, time va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cognition of accomplishment is utiliz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4"/>
          <p:cNvSpPr/>
          <p:nvPr/>
        </p:nvSpPr>
        <p:spPr>
          <a:xfrm>
            <a:off x="129528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064"/>
                </a:solidFill>
                <a:latin typeface="Tahoma"/>
              </a:rPr>
              <a:t>ORGANIZING CLASSROOMS FOR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863640" y="353880"/>
            <a:ext cx="78231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Providing Recog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3"/>
          <p:cNvSpPr/>
          <p:nvPr/>
        </p:nvSpPr>
        <p:spPr>
          <a:xfrm>
            <a:off x="1144440" y="1755720"/>
            <a:ext cx="7318440" cy="41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4"/>
          <p:cNvSpPr/>
          <p:nvPr/>
        </p:nvSpPr>
        <p:spPr>
          <a:xfrm>
            <a:off x="1676520" y="3505320"/>
            <a:ext cx="65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1600200" y="2286000"/>
            <a:ext cx="6781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5064"/>
                </a:solidFill>
                <a:latin typeface="Papyrus"/>
              </a:rPr>
              <a:t>Providing recognition for attainment of specific goals not only enhances achievement, but it stimulates m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3"/>
          <p:cNvSpPr/>
          <p:nvPr/>
        </p:nvSpPr>
        <p:spPr>
          <a:xfrm>
            <a:off x="1219320" y="1828800"/>
            <a:ext cx="7315200" cy="34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wards do not necessarily have a negative effect on intrinsic motiv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ward is most effective when it is contingent on the attainment of some standard of perform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bstract symbolic recognition is more effective than tangible rewar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 Box 2"/>
          <p:cNvSpPr/>
          <p:nvPr/>
        </p:nvSpPr>
        <p:spPr>
          <a:xfrm>
            <a:off x="838080" y="4572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Recommendations for Classroom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3"/>
          <p:cNvSpPr/>
          <p:nvPr/>
        </p:nvSpPr>
        <p:spPr>
          <a:xfrm>
            <a:off x="1600200" y="198108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stablish a rationale for reinforcing effort and providing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4"/>
          <p:cNvSpPr/>
          <p:nvPr/>
        </p:nvSpPr>
        <p:spPr>
          <a:xfrm>
            <a:off x="1584360" y="3386160"/>
            <a:ext cx="603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llow guidelines for effective and ineffective pra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5"/>
          <p:cNvSpPr/>
          <p:nvPr/>
        </p:nvSpPr>
        <p:spPr>
          <a:xfrm>
            <a:off x="1600200" y="43768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ink effort to 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6"/>
          <p:cNvSpPr/>
          <p:nvPr/>
        </p:nvSpPr>
        <p:spPr>
          <a:xfrm>
            <a:off x="1600200" y="502920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se the pause, prompt, and praise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7b9899"/>
                </a:solidFill>
                <a:latin typeface="Georgia"/>
              </a:rPr>
              <a:t>Effective praise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04560" y="152388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s delivered contingently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pecifies the particulars of the accomplishment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hows spontaneity, variety and other signs of credibility that suggest clear attention to the student's accomplishment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wards attainment of specified performance criteria (which can include effort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ovides information to students about their competence or the value of their accomplishment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ients students toward better appreciation of their own task-related behavior and thinking about problem solving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bjectiv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s a result of participating in this workshop, teachers will be able to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fine the purpose of reinforcing effort and providing recognit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ovide examples of how teachers reinforce effort and provide recognitio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resources that will support their work with students to reinforce effort and provide recognit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7b9899"/>
                </a:solidFill>
                <a:latin typeface="Georgia"/>
              </a:rPr>
              <a:t>Ineffective praise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s delivered randomly or unsystematically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s restricted to global positive reaction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hows a bland uniformity that suggests a conditioned response made with minimal attent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wards mere participation, without consideration of performance processes or outcome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ovides no information at all or gives students information about their statu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ients students toward comparing themselves with others and thinking about competing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7b9899"/>
                </a:solidFill>
                <a:latin typeface="Georgia"/>
              </a:rPr>
              <a:t>Ineffective praise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04920" y="175248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Uses the accomplishments of peers as the context for describing a student's present accomplishments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s given without regard to the effort expended or the meaning of the accomplishment (for 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student)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ttributes success to ability alone or to external factors such as luck or (easy) task difficulty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osters exogenous attributions (students believe that they expend effort on the task for external reasons - to please the teacher, win a competition or reward, etc.)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ocuses students' attention on the teacher as an external authority figure who is manipulating them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ntrudes into the ongoing process, distracting attention from task-relevant behavior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itle 1"/>
          <p:cNvSpPr/>
          <p:nvPr/>
        </p:nvSpPr>
        <p:spPr>
          <a:xfrm>
            <a:off x="533520" y="304920"/>
            <a:ext cx="8305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a3d6"/>
                </a:solidFill>
                <a:uFillTx/>
                <a:latin typeface="Georgia"/>
                <a:ea typeface="ＭＳ Ｐゴシック"/>
                <a:hlinkClick r:id="rId1"/>
              </a:rPr>
              <a:t>Examples of How Technology Can 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Content Placeholder 2"/>
          <p:cNvSpPr/>
          <p:nvPr/>
        </p:nvSpPr>
        <p:spPr>
          <a:xfrm>
            <a:off x="1600200" y="1371600"/>
            <a:ext cx="7238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ail:  Teachers can send positive notes to parents and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acher Webpages for posting studen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ord processing software to create awards and certific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3" descr="readingaward.jpg"/>
          <p:cNvPicPr/>
          <p:nvPr/>
        </p:nvPicPr>
        <p:blipFill>
          <a:blip r:embed="rId2"/>
          <a:stretch/>
        </p:blipFill>
        <p:spPr>
          <a:xfrm>
            <a:off x="228600" y="4572000"/>
            <a:ext cx="2603520" cy="196848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" descr="earubric.jpg"/>
          <p:cNvPicPr/>
          <p:nvPr/>
        </p:nvPicPr>
        <p:blipFill>
          <a:blip r:embed="rId3"/>
          <a:stretch/>
        </p:blipFill>
        <p:spPr>
          <a:xfrm>
            <a:off x="6781680" y="4343400"/>
            <a:ext cx="197820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odified Jigsaw 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unt off by 10’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Join with the other people who have the same number as you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hoose a facilitator, scribe, reporter, timekeeper and gatekeeper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scuss and research your assigned topic related to Reinforcing Effort or Providing Recognit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pare a presentation on your assigned topic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 Box 2"/>
          <p:cNvSpPr/>
          <p:nvPr/>
        </p:nvSpPr>
        <p:spPr>
          <a:xfrm>
            <a:off x="1066680" y="5014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NOWBALL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609480" y="1905120"/>
            <a:ext cx="79250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5064"/>
                </a:solidFill>
                <a:latin typeface="Tahoma"/>
              </a:rPr>
              <a:t>List the reasons why Reinforcing Effort and Providing Recognition are included in the nine categories of Instructional Strategies proven to increase student achiev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one reason per person.  When directed, crumple up your paper and toss it to another person who will add another r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380880" y="12193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5b5c"/>
                </a:solidFill>
                <a:latin typeface="Tahoma"/>
              </a:rPr>
              <a:t>On the Snowball Activity handout/Exit Car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HECKING FOR UNDERSTAND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2666880" y="12193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3d6"/>
                </a:solidFill>
                <a:latin typeface="Tahoma"/>
              </a:rPr>
              <a:t>Base Group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1384200" y="2057400"/>
            <a:ext cx="71629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ad the four examples of providing recognition in the class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 your group, evaluate each example according to the Guidelines for Prai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if recognition is Effective or Ineffec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ite the specific criteria and explain your thin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vise any that are ineff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 Box 2"/>
          <p:cNvSpPr/>
          <p:nvPr/>
        </p:nvSpPr>
        <p:spPr>
          <a:xfrm>
            <a:off x="1219320" y="2362320"/>
            <a:ext cx="65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3"/>
          <p:cNvSpPr/>
          <p:nvPr/>
        </p:nvSpPr>
        <p:spPr>
          <a:xfrm>
            <a:off x="1060560" y="129528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MT Lt"/>
              </a:rPr>
              <a:t>Example 1: </a:t>
            </a:r>
            <a:r>
              <a:rPr b="1" lang="en-US" sz="2400" spc="-1" strike="noStrike">
                <a:solidFill>
                  <a:srgbClr val="000000"/>
                </a:solidFill>
                <a:latin typeface="Albertus MT Lt"/>
              </a:rPr>
              <a:t>Dana was unable to make any connections among the elements using a table of characteristics. Mr. Mulder suggests she focus on one characteristic and look for connections. When he returns later, Dana explains how she had figured out a way to group the elements according to boiling point. Mr. Mulder congratulates her on on finding a valid conn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4"/>
          <p:cNvSpPr/>
          <p:nvPr/>
        </p:nvSpPr>
        <p:spPr>
          <a:xfrm>
            <a:off x="1355760" y="642960"/>
            <a:ext cx="63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Teacher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5"/>
          <p:cNvSpPr/>
          <p:nvPr/>
        </p:nvSpPr>
        <p:spPr>
          <a:xfrm>
            <a:off x="1143000" y="430848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MT Lt"/>
              </a:rPr>
              <a:t>Example 2: </a:t>
            </a:r>
            <a:r>
              <a:rPr b="1" lang="en-US" sz="2400" spc="-1" strike="noStrike">
                <a:solidFill>
                  <a:srgbClr val="000000"/>
                </a:solidFill>
                <a:latin typeface="Albertus MT Lt"/>
              </a:rPr>
              <a:t>Mr. Mulder circulates as students are working in small groups.  He pauses at Station 1 and comments, “Nice work on your calculations.”  At Station 2, he says, “Nice work on your graphs.” At Station 3, he says, “Nice work on your calculations</a:t>
            </a:r>
            <a:r>
              <a:rPr b="0" lang="en-US" sz="2400" spc="-1" strike="noStrike">
                <a:solidFill>
                  <a:srgbClr val="000000"/>
                </a:solidFill>
                <a:latin typeface="Albertus MT L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2"/>
          <p:cNvSpPr/>
          <p:nvPr/>
        </p:nvSpPr>
        <p:spPr>
          <a:xfrm>
            <a:off x="1584360" y="642960"/>
            <a:ext cx="70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acher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1371600" y="1523880"/>
            <a:ext cx="6873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MT Lt"/>
              </a:rPr>
              <a:t>Example 3: </a:t>
            </a:r>
            <a:r>
              <a:rPr b="1" lang="en-US" sz="2400" spc="-1" strike="noStrike">
                <a:solidFill>
                  <a:srgbClr val="000000"/>
                </a:solidFill>
                <a:latin typeface="Albertus MT Lt"/>
              </a:rPr>
              <a:t>“You really did a good job working through all of the steps and checking your answers for this problem.  I know you’ve had difficulties with multi-step calculations before and sometimes settled for getting any answer down on paper, even if it wasn’t correct. Your determination with the third task really showed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4"/>
          <p:cNvSpPr/>
          <p:nvPr/>
        </p:nvSpPr>
        <p:spPr>
          <a:xfrm>
            <a:off x="1447920" y="4648320"/>
            <a:ext cx="67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4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“Good job. Jackson. Keep it up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a-Da-Bing Warm-up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rite one short sentence that tells about something that they did this morning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rite this sentence quickly; don’t worry about making it a long descriptive sentenc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a-Da-Bing - Now think about…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11120" y="1523520"/>
            <a:ext cx="8732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Where your feet went  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What you saw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What you thought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Revise your sentence.  Make it more than one sentence if necessary.  Tell where your feet were, what you saw, and what you were thinking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NOTE:  The Ba-Da-Bing handout explains this for you and gives you examples if you’d like to try it with your students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5" name="Picture 2" descr="C:\Documents and Settings\jcook.EASTCONN\Local Settings\Temporary Internet Files\Content.IE5\5OP4WVKR\MCj04160140000[1].wmf"/>
          <p:cNvPicPr/>
          <p:nvPr/>
        </p:nvPicPr>
        <p:blipFill>
          <a:blip r:embed="rId1"/>
          <a:stretch/>
        </p:blipFill>
        <p:spPr>
          <a:xfrm>
            <a:off x="4724280" y="1066680"/>
            <a:ext cx="1447920" cy="14083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" descr="C:\Documents and Settings\jcook.EASTCONN\Local Settings\Temporary Internet Files\Content.IE5\5OP4WVKR\MCj04038930000[1].wmf"/>
          <p:cNvPicPr/>
          <p:nvPr/>
        </p:nvPicPr>
        <p:blipFill>
          <a:blip r:embed="rId2"/>
          <a:stretch/>
        </p:blipFill>
        <p:spPr>
          <a:xfrm>
            <a:off x="2819520" y="1981080"/>
            <a:ext cx="898560" cy="9302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8" descr="C:\Documents and Settings\jcook.EASTCONN\Local Settings\Temporary Internet Files\Content.IE5\SLV3VZGK\MCj04298270000[1].wmf"/>
          <p:cNvPicPr/>
          <p:nvPr/>
        </p:nvPicPr>
        <p:blipFill>
          <a:blip r:embed="rId3"/>
          <a:stretch/>
        </p:blipFill>
        <p:spPr>
          <a:xfrm>
            <a:off x="6095880" y="1981080"/>
            <a:ext cx="160020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a-Da-Bing - Think, Pair, Shar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urn to a partner and Share your original and revised sentences with your partner.  Then discuss the following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y do you think I chose the Ba-Da-Bing as a warm-up activity?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at connections can you make between Ba-Da-Bing and Effective Teaching Strategies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The Essential Nine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ategories Of Instructional Strategi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That Affect Student 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1066680" y="1981080"/>
          <a:ext cx="7391520" cy="4098960"/>
        </p:xfrm>
        <a:graphic>
          <a:graphicData uri="http://schemas.openxmlformats.org/drawingml/2006/table">
            <a:tbl>
              <a:tblPr/>
              <a:tblGrid>
                <a:gridCol w="5313600"/>
                <a:gridCol w="2077920"/>
              </a:tblGrid>
              <a:tr h="110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ying similarities and difference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e focused on this strategy earlier in the ye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1d7"/>
                    </a:solidFill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izing and note ta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inforcing effort and providing recognition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e are focusing on this tod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2"/>
          <p:cNvSpPr/>
          <p:nvPr/>
        </p:nvSpPr>
        <p:spPr>
          <a:xfrm>
            <a:off x="863640" y="353880"/>
            <a:ext cx="78231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einforcing Effort 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Providing Recogni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1144440" y="1755720"/>
            <a:ext cx="7318440" cy="41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4"/>
          <p:cNvSpPr/>
          <p:nvPr/>
        </p:nvSpPr>
        <p:spPr>
          <a:xfrm>
            <a:off x="1676520" y="3505320"/>
            <a:ext cx="65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5"/>
          <p:cNvSpPr/>
          <p:nvPr/>
        </p:nvSpPr>
        <p:spPr>
          <a:xfrm>
            <a:off x="838080" y="2133720"/>
            <a:ext cx="6782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Believing in effort can serve as a powerful motivational tool that students can apply to any situation.  Providing recognition helps students see how  effort affects outco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6" descr="MCj02813330000[1]"/>
          <p:cNvPicPr/>
          <p:nvPr/>
        </p:nvPicPr>
        <p:blipFill>
          <a:blip r:embed="rId1"/>
          <a:stretch/>
        </p:blipFill>
        <p:spPr>
          <a:xfrm>
            <a:off x="6858000" y="4376880"/>
            <a:ext cx="186516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2"/>
          <p:cNvSpPr/>
          <p:nvPr/>
        </p:nvSpPr>
        <p:spPr>
          <a:xfrm>
            <a:off x="1219320" y="380880"/>
            <a:ext cx="7315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Reflecting on Curre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Beliefs and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1220760" y="1908000"/>
            <a:ext cx="7318440" cy="36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nk, Pair, Share - Turn to your neighbor and discus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ow do you reinforce students’ effort in your class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is the purpose for reinforcing effort in the class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makes reinforcing effort effective or ineffec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questions do you have about reinforcing eff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 wish I knew…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ays to encourage students so that they keep moving forwar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ays to help students put forth effor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deas for increasing intrinsic motiv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ays to involve students in the feedback proc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to get the independent learners that we wa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n-evaluative ways to recognize positive student efforts, accomplishments, and behavi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9:13:01Z</dcterms:created>
  <dc:creator>jcook</dc:creator>
  <dc:description/>
  <dc:language>en-US</dc:language>
  <cp:lastModifiedBy>jcook</cp:lastModifiedBy>
  <dcterms:modified xsi:type="dcterms:W3CDTF">2009-05-06T15:52:18Z</dcterms:modified>
  <cp:revision>67</cp:revision>
  <dc:subject/>
  <dc:title>Reinforcing Effort and Providing  Recognition</dc:title>
</cp:coreProperties>
</file>